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85230"/>
        <c:axId val="19926844"/>
      </c:barChart>
      <c:catAx>
        <c:axId val="81385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26844"/>
        <c:crosses val="autoZero"/>
        <c:auto val="1"/>
        <c:lblAlgn val="ctr"/>
        <c:lblOffset val="100"/>
        <c:noMultiLvlLbl val="0"/>
      </c:catAx>
      <c:valAx>
        <c:axId val="19926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85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E365-226E-4621-8D26-7E4E7734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92E-6B87-4FC6-82AC-B0A44717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8A7-5D86-46C0-8CE2-06323F7F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8CA-4C78-4A39-AEBC-8227359D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A8F-2057-4996-A0E3-E0A70DCB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5A3-007F-48EA-BEB7-0049F209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330-5D04-482D-9FB0-0E2ECAEF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60C-4B06-4389-816B-F75C5487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321-1795-4B81-8800-5FA608BD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B82-02BF-4900-A45B-63E723B7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4D7F-D43B-48FC-BDA8-C1C7B4A4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75B-1962-4AB7-89F3-98D22341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735C9-BDE2-46DC-B96F-11CFD5EDBF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